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91B-54C1-4280-AEC5-5400E8F6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6F7-4F40-47C2-AD5C-38AB420B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129-D41E-4BBE-A6C8-F100A95A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DBC-7D29-4360-B09F-D755274F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272-377D-4873-9407-793FFB98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A09-05DF-4F3E-A92E-B573A7EB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43A-0E24-4E33-9109-5F6A295A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641-C7E8-4426-B779-5FAA0F25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9CB-52DD-4051-AADC-68B03930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959-0B73-4611-959A-3A9358A4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08D-DA37-45CC-A487-68651398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474-5173-49A4-B9AE-72484C5B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28D4-43D8-4731-97B9-584F1020C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997000" cy="350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9000" y="192240"/>
            <a:ext cx="51814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Lektion 4</a:t>
            </a:r>
            <a:r>
              <a:rPr b="1" lang="en-US" sz="2400" spc="-1" strike="noStrike">
                <a:solidFill>
                  <a:srgbClr val="cc3399"/>
                </a:solidFill>
                <a:latin typeface="Bauhaus 93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.  Who is this?  Write it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2.  Who is who?  Fill in the number in the pi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3.  Write down the family relationships in your no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4a. Introduce these people following the examp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4b. Now introduce other people:  Turbo, Milli, a student in the clas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5.  Write the nouns with articles in the tab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6.   Fill in the missing answe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7.  Fill in the dialog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8.  What do you know about the Schüler family?  Write it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809880"/>
            <a:ext cx="86868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9a. What do the kids answ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9b. And what is your hobby?  Write it dow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0  Write the questions to Anna’s ans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.  Which words from the list correspon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2.  Write the pairs of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3.  Which verbs from the list from Lektion 1-3 correspon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4.  Solve the puzzl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5.  This is what German animals sound like.  Find out which animals say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48520" y="50292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*Ü = Übung, which means exercise, not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8:27:52Z</dcterms:created>
  <dc:creator>udsd</dc:creator>
  <dc:description/>
  <dc:language>en-US</dc:language>
  <cp:lastModifiedBy>Hart</cp:lastModifiedBy>
  <dcterms:modified xsi:type="dcterms:W3CDTF">2009-09-29T20:02:55Z</dcterms:modified>
  <cp:revision>8</cp:revision>
  <dc:subject/>
  <dc:title>Slide 1</dc:title>
</cp:coreProperties>
</file>